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E93-222B-421F-B885-815C520C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36E-4B12-4FAB-8A18-35AE85F5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80A-6365-44FE-87C3-395C5DFE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1C7-7F04-401F-B53A-9BC469B0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D9B-73FC-40B7-9232-BFBF43F2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D55-9F2D-4EA9-A499-C69ABCE9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C55-1D8B-4C7A-96A0-431E3C5C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551-488E-414C-8156-EDDA0620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793-CEC3-43FB-AF48-F552D320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EA5-5721-4941-B10C-AC4BC9D7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DB9-0E95-409A-96CA-A56C3C47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B32-EF24-44F8-A9D6-D606D129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695E-501F-44D7-B70D-F35BC34B6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ellowjackets 28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ty well-done -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effective and realistic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!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well planned-out and written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reative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verall.  Needed a bit more development in this part. -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35:21Z</dcterms:created>
  <dc:creator>nbdoe</dc:creator>
  <dc:description/>
  <dc:language>en-US</dc:language>
  <cp:lastModifiedBy>nbdoe</cp:lastModifiedBy>
  <dcterms:modified xsi:type="dcterms:W3CDTF">2007-05-09T17:35:46Z</dcterms:modified>
  <cp:revision>1</cp:revision>
  <dc:subject/>
  <dc:title>Election 2007</dc:title>
</cp:coreProperties>
</file>